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7.jpeg" ContentType="image/jpeg"/>
  <Override PartName="/ppt/media/image30.wmf" ContentType="image/x-wmf"/>
  <Override PartName="/ppt/media/image10.png" ContentType="image/png"/>
  <Override PartName="/ppt/media/image35.jpeg" ContentType="image/jpeg"/>
  <Override PartName="/ppt/media/image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6.wmf" ContentType="image/x-wmf"/>
  <Override PartName="/ppt/media/image11.png" ContentType="image/png"/>
  <Override PartName="/ppt/media/image31.jpeg" ContentType="image/jpeg"/>
  <Override PartName="/ppt/media/image2.png" ContentType="image/png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95A4-60C6-4E9B-BAFB-0BDFD93F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20E-0A62-4D23-8FA2-8CB89DF48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EA7-5A02-41E8-AD30-02669D1D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273D-1924-40AC-A8A4-68566ED7F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453-52D1-40EF-A9E8-243A7714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14EF-E563-4ACF-B09B-913E6E63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75E-B76B-4BC6-BFE5-0B079D0B5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8B8-CCF1-47A8-B3C6-6B693413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EB8-CAB6-45B3-912B-0750474E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7E4-AE76-4325-A49C-003932DB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5BF-3FCA-47D8-A1FE-1E355690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599E-DE67-463F-B13A-CDC8481B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9BD-CBE7-43AD-9AA1-4D6CFD2F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6CA-0AFA-4369-824D-C656C612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4582-B6C8-48E3-B9C3-BF5F8E5B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BDF-9927-4187-81F0-3308B295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4796-24F4-4271-8694-66AB212E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FBD-8D69-45AA-8569-B0B93D1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28B-2CD1-403A-8801-72725F2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4BD-43F8-4EF2-990C-DC3B64D8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A07-EEFD-44A8-A4AE-687D2318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5E3B-D570-41B5-8808-00F4BD9E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E733-63A0-4184-B58D-D756DE2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C805-0683-4AD2-8DF6-89E1684A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C2B-3A50-45C9-AC54-C172016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8C7-CFB8-4338-BDDE-CFDE899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5B3B-20AA-4C43-8C01-934D0D36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575-EBA7-45C0-96AC-0956A31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28A-3FF4-4F24-A94A-E8A2465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EB0-94DC-4AEB-8D96-4D6585A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063E-B9E9-4980-A1A7-EA5407B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84F-CB4D-4E99-9E69-70E73698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806-A511-4B4D-BA8C-9A0A9EC6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1101-6FF2-4AF3-A33E-7FF5088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DA4-9F61-4480-BB12-9B024F1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7A0-9396-4FC2-91AF-34A8465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266-D7EE-4BE2-8B93-0B063657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E4F-0E88-432C-BC34-FE920145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E1B-553B-4A6E-935D-72DF1C7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0A5-3549-4E01-A97E-10CBB07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6C0-4009-4BAC-B5EA-B95FAA8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A5E-1045-4943-A186-17505587A6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7AC-C803-4996-A8E7-3FBAE30820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nbc.msn.com/id/42569811/ns/us_news-life/t/yale-student-dies-chemistry-lab-accident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Lab Safety: Why It’s Really Cool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3048120" y="26290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ggested that you wear glasses and not contact l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ggles with vents vs. goggles without 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: Aprons and Glo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219480" y="2209680"/>
            <a:ext cx="2509920" cy="339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62120" cy="334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457200" y="220968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Blanket: used for fires on hair or cl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W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52600" cy="221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905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quipment Usag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st of replacing glassware or equipment caus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glig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ld be the responsibility of the stud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neglig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Chipped or cracked glassware shou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Broken 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pecial glass dispos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f a piece of glassware gets broken,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clean it up by yourself. Notify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protective goggles and a l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n whenever heating or pou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mix chemicals together unle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re told to do so (and then only in 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touch, smell, or taste an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471320" cy="19047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need to smell the odor of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, waft the fumes towa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ose with one hand. 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your nose over the containe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ur water into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d acid.  Acid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poured slowly into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 Follow the instructions of you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when disposing of a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s.  (Solid wastes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d in the s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Wash your hands after handl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ing Biological 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ny live or preserved specimens, be RESPECTFU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caution when using sharp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 of all biological materials as directed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 electrical cords where n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trip on them or ge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sure your hands and your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 are dry before us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ke anything 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out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6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627200" cy="22096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do We Talk about Lab Safet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snbc.msn.com/id/42569811/ns/us_news-life/t/yale-student-dies-chemistry-lab-acciden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burners and hotplates cool down befo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them. Test to see if they are coo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ough by bringing the back of your h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Use tongs and/or protective gloves to hand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o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Never reach across an open flame or bur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 Tie back long hair and do not wear lo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  Always point the top ends of test tubes that a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heated away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  When heating a test tube, move it around slow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he flame to 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ly flush wi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until burn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and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will stop bleeding in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minut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plenty of water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nutes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9242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Find out what substance w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and alert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with large quantities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bout Arti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ould have been done to prevent this acc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hould the university do in response to the accident to improve their lab safety prac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Listen to or read instructions careful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attempting to do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Wear proper protective gea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clo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Notify your teacher if any spills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Object 5" descr=""/>
          <p:cNvPicPr/>
          <p:nvPr/>
        </p:nvPicPr>
        <p:blipFill>
          <a:blip r:embed="rId1"/>
          <a:stretch/>
        </p:blipFill>
        <p:spPr>
          <a:xfrm>
            <a:off x="5486400" y="461016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334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handling chemicals, always wash your hands with soap an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lab work, keep your hand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way from your face and tie back your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981080" cy="1468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23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Know the location lab safe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Keep your work area uncluttered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2286000" cy="1602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ut anyth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mouth during a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up your lab are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onclus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“horse around”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practical jokes 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548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 in the Science Classro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should not touch equipment unless given proper instructions and permission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ad your lab procedu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, drink, and gum are a 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clu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27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ropriate Clot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pen-toed sh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Hair 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 up loose sle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rsey Material: will mel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562720" y="3743280"/>
            <a:ext cx="174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6553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Kathryn Emerson Ottolini</cp:lastModifiedBy>
  <dcterms:modified xsi:type="dcterms:W3CDTF">2012-09-06T15:37:11Z</dcterms:modified>
  <cp:revision>87</cp:revision>
  <dc:subject/>
  <dc:title>Lab Safety</dc:title>
</cp:coreProperties>
</file>